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7888-EAE6-465B-BAAB-AEFA84F6C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4D1E-4915-4B4D-BCB0-CC4968EF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9C05-E07B-4E7C-8B11-2E553721B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0D9D-5B51-4E08-8546-2D636F99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C29F-6402-4DAE-8838-EADA351C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16D1-2C2E-4D63-AE90-C8E6687F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E023-295C-4C54-BE6E-B059A403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FFD2-0D9F-4C06-A77F-DECC3107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4283-C9F6-4AFA-81B0-4085F43C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8B5D-077C-42AF-94DF-A5965B84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5A9B-2A1B-4755-A75A-527B4670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7D24-7528-451C-B5C8-E12FA73C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2085-6688-45A1-B83B-283BEEF3F319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use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由檔案讀取方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準備流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Edit the “Makefile”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IG_EFUSE_CONFIG_FILE=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編譯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前，請先編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k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FIG_EFUSE_CONFIG_FILE=n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改成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=y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再做編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動作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Prepare efuse MAP directory and fi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準備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預設讀取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fuse map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fer the FileEfuseExamp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. /system/etc/wifi/wifi_efuse.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efuse ma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alsil RF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工程師為客戶量出預設值給客戶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p 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放進客戶系統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B. /data/wifimac.t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wlan mac addres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客戶系統執行亂數產生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或是由客戶申請合法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產生此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l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05:49:50Z</dcterms:created>
  <dc:creator>Willistang</dc:creator>
  <dc:description/>
  <dc:language>en-US</dc:language>
  <cp:lastModifiedBy>Willistang</cp:lastModifiedBy>
  <dcterms:modified xsi:type="dcterms:W3CDTF">2012-11-28T11:23:16Z</dcterms:modified>
  <cp:revision>12</cp:revision>
  <dc:subject/>
  <dc:title>PowerPoint 簡報</dc:title>
</cp:coreProperties>
</file>